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15.gif" ContentType="image/gif"/>
  <Override PartName="/ppt/media/image5.wmf" ContentType="image/x-wmf"/>
  <Override PartName="/ppt/media/image24.wmf" ContentType="image/x-wmf"/>
  <Override PartName="/ppt/media/image23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51A0-F1D0-4419-9D90-505FA62A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48F1-BAF6-4C6F-9A6D-121B4B06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C5F8-25B7-43F8-9578-DD358BAF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4A5C-120E-4C0A-9B68-50C6F56C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369-678C-4459-A65B-91D9169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A18-24D9-44E7-BB44-4633146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8BD-CD50-4DB6-8657-3C4218E2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B5D-0D97-4D4A-84B8-1715CA9A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32A-5713-4CB8-946D-484B1AD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3239-110D-474B-BB10-20DE9DD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B50-76D2-4C30-8AED-8729EF1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7D33-9DCF-4D71-8F53-C4A938E8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45A7-F55B-48CF-B6EB-BC5C2E9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0DF2-AF4B-4B81-A6A5-8587D58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D85-055B-4297-9B5C-846C5D2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02DC-D2B8-4263-8C69-BFDF6AEE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E2D-2565-44DC-A7A9-7FAF784E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F56A-3D5F-42A1-A4B1-A61FE7F3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24DB-214C-4B34-B9A1-9EB3E8F4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948E-D93D-4355-B876-CA65C457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F5CB-4270-467D-B23C-C3C2679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6126-B159-4FF6-833E-3FEDFB3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3074-F894-4E48-A382-EECA9A61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4A31-0B5A-4422-B82E-1E4BA3F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44D-21A6-4CD9-AA86-13B60F919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2314-0E82-4AA8-9327-147307A2A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audio" Target="file:///tmp/home/.config/libreoffice/4/user/gallery/sucotash.wav" TargetMode="External"/><Relationship Id="rId6" Type="http://schemas.microsoft.com/office/2007/relationships/media" Target="file:///tmp/home/.config/libreoffice/4/user/gallery/sucotash.wav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7510000%5B1%5D.wav" TargetMode="External"/><Relationship Id="rId2" Type="http://schemas.microsoft.com/office/2007/relationships/media" Target="file:///tmp/home/.config/libreoffice/4/user/gallery/MSj00747510000%5B1%5D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file:///tmp/home/.config/libreoffice/4/user/gallery/yellgroan2.wav" TargetMode="External"/><Relationship Id="rId4" Type="http://schemas.microsoft.com/office/2007/relationships/media" Target="file:///tmp/home/.config/libreoffice/4/user/gallery/yellgroan2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storm.wav" TargetMode="External"/><Relationship Id="rId3" Type="http://schemas.microsoft.com/office/2007/relationships/media" Target="file:///tmp/home/.config/libreoffice/4/user/gallery/storm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file:///tmp/home/.config/libreoffice/4/user/gallery/reallly.wav" TargetMode="External"/><Relationship Id="rId5" Type="http://schemas.microsoft.com/office/2007/relationships/media" Target="file:///tmp/home/.config/libreoffice/4/user/gallery/reallly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2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0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 </dc:creator>
  <dc:description/>
  <cp:keywords/>
  <dc:language>en-US</dc:language>
  <cp:lastModifiedBy> </cp:lastModifiedBy>
  <dcterms:modified xsi:type="dcterms:W3CDTF">2007-09-29T17:36:21Z</dcterms:modified>
  <cp:revision>2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